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71E-5C40-49AA-BCE2-972C4D72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8806-0350-4EE0-8C73-8C1CB764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BEB-6D95-4969-9407-594FCCE8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2DC-7E2F-431C-B4FB-8E0C4EFE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916-EBAB-4838-B967-D2FDEF6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8F2-3A8D-4A7B-B065-CCB3EC78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497-F9E8-49D8-BD7C-6AB03238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0F9-6522-4AC7-A283-C41A0E9F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684-8030-4C51-B7F0-AEA62430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50A0-AC21-4C2E-92F0-9322DEA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149C-8405-4400-A731-ABD525C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8C4-C9F6-4910-B628-8518D65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A6D2-791D-4FCE-B71A-2D88DA1198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your sty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vak.jpg"/>
          <p:cNvPicPr/>
          <p:nvPr/>
        </p:nvPicPr>
        <p:blipFill>
          <a:blip r:embed="rId1"/>
          <a:stretch/>
        </p:blipFill>
        <p:spPr>
          <a:xfrm>
            <a:off x="1676520" y="34920"/>
            <a:ext cx="586728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Visual Lear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of people are visual lea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from diagrams, maps, vid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good sense of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ists to organize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 to be unaware of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well developed imag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ly distracted by movement 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LS1.wmv" descr=""/>
          <p:cNvPicPr/>
          <p:nvPr/>
        </p:nvPicPr>
        <p:blipFill>
          <a:blip r:embed="rId1"/>
          <a:stretch/>
        </p:blipFill>
        <p:spPr>
          <a:xfrm>
            <a:off x="603360" y="1517760"/>
            <a:ext cx="7181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ctile/Kinesthetic Lear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high energy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best when actively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 to DO as opposed to 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e much of what is said in a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at sports and 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est with hands-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hard time sitting and list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LS2.wmv" descr=""/>
          <p:cNvPicPr/>
          <p:nvPr/>
        </p:nvPicPr>
        <p:blipFill>
          <a:blip r:embed="rId1"/>
          <a:stretch/>
        </p:blipFill>
        <p:spPr>
          <a:xfrm>
            <a:off x="438120" y="1590840"/>
            <a:ext cx="719460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uditory Learn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by listening and talking a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 verbal instructions and le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ce and remember s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good with words an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read to yourself while you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 acting or being on s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afraid to speak in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LS3.wmv" descr=""/>
          <p:cNvPicPr/>
          <p:nvPr/>
        </p:nvPicPr>
        <p:blipFill>
          <a:blip r:embed="rId1"/>
          <a:stretch/>
        </p:blipFill>
        <p:spPr>
          <a:xfrm>
            <a:off x="676440" y="1590840"/>
            <a:ext cx="7345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you will complete a survey to find out if your answers to the questions confirm your learning style beli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Blinking-Eyes.gif"/>
          <p:cNvPicPr/>
          <p:nvPr/>
        </p:nvPicPr>
        <p:blipFill>
          <a:blip r:embed="rId1"/>
          <a:stretch/>
        </p:blipFill>
        <p:spPr>
          <a:xfrm>
            <a:off x="603360" y="3578400"/>
            <a:ext cx="2377800" cy="2371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move.jpg"/>
          <p:cNvPicPr/>
          <p:nvPr/>
        </p:nvPicPr>
        <p:blipFill>
          <a:blip r:embed="rId2"/>
          <a:stretch/>
        </p:blipFill>
        <p:spPr>
          <a:xfrm>
            <a:off x="3581280" y="3886200"/>
            <a:ext cx="1943280" cy="194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uditory.jpg"/>
          <p:cNvPicPr/>
          <p:nvPr/>
        </p:nvPicPr>
        <p:blipFill>
          <a:blip r:embed="rId3"/>
          <a:stretch/>
        </p:blipFill>
        <p:spPr>
          <a:xfrm>
            <a:off x="6248520" y="3657600"/>
            <a:ext cx="17492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0:26Z</dcterms:created>
  <dc:creator>San Ramon Valley High School</dc:creator>
  <dc:description/>
  <dc:language>en-US</dc:language>
  <cp:lastModifiedBy>csekera</cp:lastModifiedBy>
  <dcterms:modified xsi:type="dcterms:W3CDTF">2012-02-28T21:52:23Z</dcterms:modified>
  <cp:revision>22</cp:revision>
  <dc:subject/>
  <dc:title>Learning Styles</dc:title>
</cp:coreProperties>
</file>